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16E-490F-4760-A69D-A7F38D95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B0C-567B-4AB6-8DA7-970F196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3DE-A55E-4AC0-8EB3-FD0E36B7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E81-D097-4610-BBD9-92E9214D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544D-80B0-40EF-A9EE-E2910F21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9278-B1BD-4BDB-AFCF-2530435A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FADC-E262-4074-B9A8-48650FF8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969-2305-4D30-9D9A-BECAF710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4122-F579-4D57-87CE-C9378180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EDF7-BB57-4C1A-B411-BD6B4232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099F-CA04-4666-B141-8076BD06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C52-871C-4DD9-8566-92CEDEF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248B-8CE5-406C-8FAF-A5C5383A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64A6-4D8F-452B-AEA1-BB1061A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3C08-10D5-4884-ABEC-6CE8BDEA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577-A965-4374-B05A-D65EC3A6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B490-9FBA-4069-9B5F-5FCFA7F7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94B-37DF-4D24-9784-0748576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E77-7485-4A17-917D-CC23C543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9FB-8B80-4EDE-ACB9-1B7A271C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298-84E6-479B-ACBC-7DAA57F3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052-C470-4887-B756-5B82898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C51-4121-4100-94F5-6D0AED93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7E7-0B20-4082-B6E0-441E7582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29A6-D22F-4EA3-B598-93AC275DDB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E4FC-850E-42E5-BDA1-14200CED19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aeaea"/>
                </a:solidFill>
                <a:latin typeface="Tahoma"/>
              </a:rPr>
              <a:t>My Gloss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y Logan Barne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ationships in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ata that can relate to other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lly cha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chart that has un-complex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requency tab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table that usually goes with a tally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cto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hat show a picture of what the data is displa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r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that shows bars which show how much there is of something through the height of each 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gra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that’s part of the bar graph family, used for continuou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ip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in the form of a thick line which has different sectors for each piece of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e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in the shape of a circle/pie with different se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t plo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hat have dots representing were each piece of data g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m and leaf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aph that has a trunk/stem and a bunch of numbers to the sides called ‘leaves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us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group/gathering/bunch of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. A bunch of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atter plo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hat show continuous data in the form of d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ox and whisker grap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raphs to show medians, inter-quartile ranges and out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ne graphs/time series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most basic continuous graph showing a simple line to show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nother word for average or to show the average of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edi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middle of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. data or a 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most reoccurring number out of all/some of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place in which all the data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quartile r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top and/or bottom 25% of all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Changes that you think should be made by looking at what you found out from your invest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last statements about your invest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utli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data that is out with the other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ralis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umming up all of the things about the investigation and making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en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ata that goes with other data in a patte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.g. 1 2 3 4 5 6 7 8 9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ultivariate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ata that has multiple variations as its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ariab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ings that might make the data vary or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small part of data/number/gro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rvey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athering data through asking peopl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tterns in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 pattern that happens when you get the same data more than o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21:34:37Z</dcterms:created>
  <dc:creator>logan barnett</dc:creator>
  <dc:description/>
  <dc:language>en-US</dc:language>
  <cp:lastModifiedBy>logan barnett</cp:lastModifiedBy>
  <dcterms:modified xsi:type="dcterms:W3CDTF">2010-05-28T00:12:09Z</dcterms:modified>
  <cp:revision>7</cp:revision>
  <dc:subject/>
  <dc:title>My Gloss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83841595</vt:r8>
  </property>
</Properties>
</file>